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EB9A-F287-49F6-824E-ABDE17C29A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FAF-5DBC-472C-9CFF-EF12E978BA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F4D-5130-4D3D-8BD6-EA24A6AF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2F2-E6B7-4917-AF6C-C706D32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499-E0C6-44C5-9E4C-3501595A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4B4-5FE3-433F-8022-726962CD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68CF-0D49-45A6-BE98-520B88A7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C601-4F04-40BD-8FCC-ABC708E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8F5D-2281-4358-A1CB-56B6DAB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EEC-24A3-4EE3-A161-7D42C52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71D3-644A-4363-9BCD-9561B0A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700D-C971-49B3-ACC4-97DF343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591A-31EB-4D08-918A-20BC582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74B-5D89-4FFD-B62C-2055945C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BA6-4EA8-4646-9C3F-78E60D2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93D5-69F4-4A29-A720-C837195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D28-0E7E-4B13-A9E3-620B49C9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CBB-B85A-4F44-B891-1F6BB943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8DC-8F62-4395-A8BA-7AC20B60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79901-9B2A-4D5E-9999-E31FD934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544FC-A1C1-4AEE-919D-89EB3CB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90BFA-0084-4896-8D31-AF22181F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67A3C-94E1-4737-87AB-E87EC47C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05449-C4D0-4C18-871E-2529670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37F-62AF-4991-ADE3-05FF4FD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58027-7718-4F7E-A9B6-19864F9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0BAFA-B55F-4C83-A9D0-EC8D0D4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5D13A-F16C-47A0-97F3-04854E2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66861-546B-4135-B02B-3DA0E23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660BE-069C-4A11-8BDB-B6174E87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E7B06-82CD-49DC-9883-7634FBED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9FBD2-A9E8-4469-971B-C401208C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0711-B0B4-465C-B082-04B5E905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67C6-B181-41C8-8B0A-799182C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A9F1-7F2F-4D19-B4D3-7C84B988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418-F540-4299-9D85-D46ADDE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2143-A5DA-44DA-B300-87FB6DA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8D7B-2CC9-4E59-A998-DCD605C3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F2C5-D6DB-4067-947E-0952131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F8A5-12F4-4518-AA0B-F4AD530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A109-AC00-4623-AB68-C7B495F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6362-6EFB-4124-AFB1-B76C44C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E637-0EC0-49E2-B4C1-393CAA1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04CC-E2C6-4E00-BB3D-698CF974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CFEE-9DC2-4BFC-91EB-D3088A8B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8D178-A461-4020-8470-926ACC18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40B-89E0-4CB6-BBEB-76E3CA9E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94FBC-6B53-4227-890B-2F86BB4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2F1E-6F90-4212-9819-D29C1927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13F06-7C32-4D80-865F-60F63D96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15E30-FE7D-4070-8177-C32F51F1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2B2F1-B91A-4EA5-85A6-D1C1EC0C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4156A-181F-406D-8BD3-1FE50E5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55A76-D86A-45CC-8AAB-7E13D92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187D4-B28B-4EC1-8D94-22B1A00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29FBA-1EC3-4E53-80CF-645B2102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E0FA3-89B9-4741-A662-4BDD3D57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2C0-B0CC-45CA-AB33-D6A4B4FE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7F23A-54F6-4C8E-A026-6768863D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E3E75-2CAF-42D5-B01A-1EF2A3A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03937-F38D-422F-89DA-7622B36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22F63-FE4A-41C0-88C4-1CF0DBC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791A9-13DB-4652-955F-8B36DE8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9E145-8F46-4E26-B59B-19E4ECB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08EC3-531C-4DB7-8EA5-FFFB220B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36FBC-6507-475F-A7A4-289AC3F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0F898-FFCA-4B8D-8AB2-03ADA30A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5523D-8F91-4DA4-991B-123CAEE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BEE-D9A8-4B0A-926E-6F88F30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2DFA2-21FA-49FF-A0C9-9107DD60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F2FE1-266F-49F9-BB80-44B99831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D4806-5D83-4AD1-A373-CA2F363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C6D18-E824-406F-AA47-1E0A92C6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AA6E6-0976-4D29-A731-4E3C2C3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226D5-D0D7-400F-8002-CCF023E6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05D57-3C49-4D36-A6AE-34A920D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2D4BB-28A3-455E-8726-F112854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55B55-63C5-414D-BE77-9AFB2F6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91FAA-FB53-45BC-9048-BFF61DC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A4E-1AED-4E13-8A0A-712EC20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46627-1461-43A9-8888-3B377EC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BA476-BF15-4969-8058-F48B55F0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27766-7557-4D39-9D41-7E936F0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08AB0-7C57-404A-9F23-CC7ABE7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4DC00-F0BE-4EF2-8013-359C7055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9D3-43F8-48C7-95D7-EE2712A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4F9-41A6-44FD-A5B2-E2B009281B8F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2CA1-099B-41E7-9EC9-AD4898AFA89B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A65-334C-4381-A77B-10FB5C972A4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5B6-CC11-43BC-8DE3-8109CC5F5DC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977D-98A3-476E-A719-18A45691ACB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427-849F-43B5-A85A-957148FFAC3F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AA0D-5DB9-4375-8B44-9A55430A56E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75f6d"/>
                </a:solidFill>
                <a:latin typeface="Century Schoolbook"/>
              </a:rPr>
              <a:t>NEWS VALU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A Level Med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3"/>
          <a:stretch/>
        </p:blipFill>
        <p:spPr>
          <a:xfrm>
            <a:off x="6084720" y="494172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THE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ow realistic is the new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n you think of any way that the news may be construct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hat is the role of the newsread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5975280" y="4889520"/>
            <a:ext cx="3168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programmes which feature high in the ratings, appear to be the ‘most real’ and least mediated programmes on T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 Britain and America the news on TV is widely seen as more reliable than any other source of news (esp BBC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 expect an impartial and balanced summary of significant ev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T, presenting, writing and documenting news is a selective and partial proc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t uses specific media language and narrative reflecting the perspective and bias of the crea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is can influence the audience’s perception of the events portray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ALITY IN NEW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John Fisk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, of course, can never give a full, accurate objective picture of reality nor should it attempt to for such an enterprise can only serve to...decrease people’s opportunity to argue with it, to negotiate with it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4932360" y="4653000"/>
            <a:ext cx="1998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NEWSR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esented as a ‘neutral’ observ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ppears to speak “the objective discourse of the truth.” (Fisk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itting behind a desk reduces their body languag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Yet, we ARE directed by the newsread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ur gaze follows their gaz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verything seen seems to support what the newsreader say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lthough the content may be far from reassuring, their manner is always friendly, reliable and reassur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‘tail piece’ offers a happy en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411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236000" y="3141720"/>
            <a:ext cx="1908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REPORTING OF EV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ew events are directly observed by reporters – most stories are repackaged from secondary sourc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agencies, press conferences, spokespeople may have bia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often report what prominent people say about events, rather than the events themsel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xperts’ and special correspondents are used to comment on events (purely stylistic featur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brary footage serves to ‘authenticate’ stor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ve TV – gives a sense of ‘nowness’ but tends to disguise the constructedness of new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TRUCTURE AND NARRA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programmes tell stor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re are principal and minor characters, connected sequences, heroes and villains and a beginning, middle and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ske argues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basic structure of a TV news story follows Todorov’s outline of narrative structure.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6407280" y="4618080"/>
            <a:ext cx="2736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NEWS VALU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t is often argued that news has an agenda setting fun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y what is omitted as well as what’s included, newsmakers may influence what we think is import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ews is selec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ten focuses on issues of cultural concern – Madeline McCann...poor parenting...paedophilia...medical malpractice...mistrust of foreig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6588000" y="4809960"/>
            <a:ext cx="2556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N THE NEWS TODAY..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ework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atch an episode of the news this week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ite an analysis of the programme based on Dutton’s news valu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58:22Z</dcterms:created>
  <dc:creator>Grainne</dc:creator>
  <dc:description/>
  <dc:language>en-US</dc:language>
  <cp:lastModifiedBy>Grainne</cp:lastModifiedBy>
  <dcterms:modified xsi:type="dcterms:W3CDTF">2010-09-16T10:57:11Z</dcterms:modified>
  <cp:revision>33</cp:revision>
  <dc:subject/>
  <dc:title>News Values</dc:title>
</cp:coreProperties>
</file>